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2380-DEEC-4B4E-8348-C630B528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A992-B6CC-4256-9A3F-BC7C5A24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5E3A-2AB7-4CF6-946D-D682887C6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423A-C646-4C59-93FF-983311D7A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DFA3-967F-498C-BFDA-20E6B823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0CEC-5539-4CB6-833D-7BF2E54C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6CFE-A0E2-4D89-BC4C-35291639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668A-277B-408B-BFA9-6CE5A9D5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A126-77F7-4233-AC3D-2F8746C5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5750-DE39-4A47-B6EF-DAABEF61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6C5C-B038-454F-B950-46552051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B888-B598-4ECA-A1A1-23DD3996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741A-6F54-4F49-A298-1DADF5D329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гостях у волшеб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О ПОЖАЛОВ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ГОГО НИЧЕГО В ПРИРОДЕ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 ЗДЕСЬ, НИ ТАМ В КОСМИЧЕСКИХ ГЛУБИНАХ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Ё - ОТ ПЕСЧИНОК МАЛЫХ – ДО ПЛА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ЭЛЕМЕНТОВ СОСТОИТ ЕДИНЫ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ФОРМУЛА, КАК ГРАФИК ТРУДОВ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Й МЕНДЕЛЕЕВСКОЙ СИСТЕМЫ СТРОГ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КРУГ ТЕБЯ ТВОРИТСЯ МИР ЖИВ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ХОДИ В НЕГО, ВДЫХАЙ, РУКАМИ ТРОГ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43160"/>
            <a:chOff x="0" y="0"/>
            <a:chExt cx="9144000" cy="674316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25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322640" y="6344280"/>
              <a:ext cx="650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Макет химической лаборатории М.В.Ломоносов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уку сидит с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ыхает С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поги мои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пускают 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C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его все знаю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агазине покуп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 него не сваришь ужин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алых дозах в блюдах нуж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лакон с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MnO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бычно имеется в каждой кварт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рожденья ребёнок любой с ним зна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ва лишь покинет он с мамой род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го искупают в ванночке 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дь он для дезинфекции незамени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за чудо посмотр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СаСО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доске он проезжа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собой след оставля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нет у вас для те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ыхлителя, вы вместо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HCO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ите в пир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еведите с химического языка на общепринят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всё то аурум, что блес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ый, как карбонат каль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й феррум, пока горяч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о – аргентум, а молчание – аур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прумного гроша не сто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ойкий станумный солдат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яжёлые плюмбумные ту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4T08:20:20Z</dcterms:created>
  <dc:creator>евросеть</dc:creator>
  <dc:description/>
  <dc:language>en-US</dc:language>
  <cp:lastModifiedBy>PC</cp:lastModifiedBy>
  <dcterms:modified xsi:type="dcterms:W3CDTF">2022-10-30T17:02:1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